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69720" y="54748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4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6319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269720" y="54748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6319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0816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4660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26972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480816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834660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19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4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6319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1269720" y="54748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6319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816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4660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6972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80816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34660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0816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4660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126972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80816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34660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4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319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269720" y="54748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6319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0816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4660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26972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80816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834660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4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6319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1269720" y="54748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6319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0816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4660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126972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80816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834660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4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6319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269720" y="54748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6319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80816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4660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26972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80816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34660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4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6319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1269720" y="54748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6319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0816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4660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126972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480816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834660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4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319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69720" y="54748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319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0816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4660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6972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0816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34660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4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6319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269720" y="54748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6319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816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4660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26972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80816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834660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4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319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269720" y="54748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319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0816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4660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26972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80816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34660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4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319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269720" y="54748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6319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4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0816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4660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26972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80816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34660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4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6319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69720" y="54748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6319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0816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4660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6972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80816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834660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4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19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6319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269720" y="54748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6319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816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4660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26972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480816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834660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4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6319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269720" y="5474880"/>
            <a:ext cx="1046484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31920" y="21844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2697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631920" y="5474880"/>
            <a:ext cx="5106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0816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46600" y="21844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26972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80816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346600" y="5474880"/>
            <a:ext cx="3369600" cy="30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1087280" y="7721640"/>
            <a:ext cx="1801800" cy="201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95360" y="190440"/>
            <a:ext cx="11963520" cy="8979120"/>
          </a:xfrm>
          <a:prstGeom prst="rect">
            <a:avLst/>
          </a:prstGeom>
          <a:noFill/>
          <a:ln w="9360">
            <a:solidFill>
              <a:srgbClr val="bdb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2616120" indent="-5713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2616120" indent="-5713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2616120" indent="-5713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1087280" y="7721640"/>
            <a:ext cx="1801800" cy="2017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582480" y="9112320"/>
            <a:ext cx="4100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f6f6f"/>
                </a:solidFill>
                <a:latin typeface="Gill Sans"/>
                <a:ea typeface="Gill Sans"/>
              </a:rPr>
              <a:t>by Adrian Chan, 2007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"/>
          <p:cNvSpPr/>
          <p:nvPr/>
        </p:nvSpPr>
        <p:spPr>
          <a:xfrm>
            <a:off x="6036480" y="9165240"/>
            <a:ext cx="89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3a3a"/>
                </a:solidFill>
                <a:latin typeface="Gill Sans"/>
                <a:ea typeface="Gill Sans"/>
              </a:rPr>
              <a:t>Gravity7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Social Interaction Design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69720" y="6387840"/>
            <a:ext cx="104648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drian Cha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avity7.co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4048920" y="5472360"/>
            <a:ext cx="4894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An Introduction to SxD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ain concepts</a:t>
            </a:r>
            <a:r>
              <a:rPr b="0" lang="en-US" sz="8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	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773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sers of social media have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 ability to become self-involved online, and to relate through social media to others (mediated presence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expectations of future interaction (commitment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 sense of self and a (self) perception of how they look to others (validation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n intention to sharing their professional and/or personal interests (social motivation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relationships they maintain online (social networks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rust and confidence in the system (competence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Interactions = Socia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808560" indent="-519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onventional user interaction and user interface approaches address the user’s interaction with the devic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08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08560" indent="-519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 designer designs the scree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13200" indent="-519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 interaction is User—Softwar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13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08560" indent="-519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 Social Interaction Designer also designs beyond scree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13200" indent="-519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 interaction of User—Software —User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User Needs = Interest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69720" y="2184120"/>
            <a:ext cx="10464840" cy="708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hift from task and goal-oriented transactions common to traditional software use.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Non-social software: users have need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media: users have interest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media are relational media: users are interested social participants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sers not satisfied by success in discrete transactions and actions, as in non-social softwar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sers sustain interest in own participation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media: emphasis on sustaining participation, communication, and interes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User Needs = Interest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269720" y="2184120"/>
            <a:ext cx="10464840" cy="708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 user’s psychological interests include acknowledgment, recognition, membership, attention, respect, attraction, citation, compliments, pleasure, self- satisfaction, popularity, etc, and the avoidance of risk, failure, embarrassment, disappointment, etc.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 user’s communicative interests include visibility, attention, organization of place and form of communication, etc.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e mediation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916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echnical media transform talk in significant ways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Modern technologies permit us to transcend physical presence and stretch relationships across time and spac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encounters, as communication in (inter)action is disembedded from place and tim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ommunication is not an </a:t>
            </a:r>
            <a:r>
              <a:rPr b="0" i="1" lang="en-US" sz="3000" spc="-1" strike="noStrike">
                <a:solidFill>
                  <a:srgbClr val="000000"/>
                </a:solidFill>
                <a:latin typeface="Gill Sans"/>
              </a:rPr>
              <a:t>immediate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Gill Sans"/>
              </a:rPr>
              <a:t>and direct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 handling of statements and relationship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But is </a:t>
            </a:r>
            <a:r>
              <a:rPr b="0" i="1" lang="en-US" sz="3000" spc="-1" strike="noStrike">
                <a:solidFill>
                  <a:srgbClr val="000000"/>
                </a:solidFill>
                <a:latin typeface="Gill Sans"/>
              </a:rPr>
              <a:t>mediated and indirect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 transposition through a means of production and distribu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Online social interaction is a mediated, compressed, and asynchronous experienc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e communicativ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916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 medium screens out affective and communicative face to face cues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ts mediation of communication decouples the utterance from the act of uttering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ommunication is captured and re-presented using text, images, video, audio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nteraction is decoupled from its performanc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nteraction is captured and re-mediated asynchronously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e sociologica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916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Our understanding of user behavior and social practices benefits from the insights of psychology, communication, and social theori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Online social interactions are a new kind of talk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 social is a figment and an effect of individual user contribution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t is observed, tracked, and re-presented through usage and data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 togetherness of social media is simultaneous and co-present but always interrupted, stretched, disassociated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forces and power are transformed by medi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e psychologica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Psychological views of identity, the Self, interpersonal relationships, and the organization of social encounters provide key insight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Psychology offers insights into how users relate to others, be they familiar or unfamiliar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s valuable to understanding the user’s interest in private and public relationships and communic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Helps us to value the ways in which users fashion themselves through their online profiles and contribution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nd how they might become engaged in perceptions, projections, anticipations, and expectation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e tempora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69720" y="2184120"/>
            <a:ext cx="10464840" cy="676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media organize tim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Our experience of social time is episodic, eventful, and has dur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n communication, it may be deferred, interrupted, stretched, or cut off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We relate to this kind of time with anticipation and expectation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activity is temporal, has pacing and rhythm, speed and intensity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ny social technology structures time and is fast, slow, near, far, and so 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e paradigm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What is SxD?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7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esign of social media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1976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nvolves all web design disciplines: User Interface, Interaction design, Experience design, Information Architecture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media include networked applications that permit direct and indirect, private and public communication and interac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media platforms may be computer-based or mobile, even game platform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y engage the participation of user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ser participation produces mediated social practic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9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Shift of paradigm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rom individual users to social practic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ser provides content, and content is peopl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ounded in the personal, biographical, and the everyday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Personally and socially meaningful activities and mediated forms of talk and interac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New modes of organizing atten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New forms of value and differenti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New channels for messaging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New means of capturing audienc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e Social Paradigm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870840" indent="-559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ser as a social Self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0840" indent="-559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ser as self-interested and interested in other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0840" indent="-559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ll activity is social (visible to some others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0840" indent="-559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nteraction is Particip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0840" indent="-559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Participation is a form of talk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0840" indent="-559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alk has new forms and languag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0840" indent="-559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New forms include posts, comments, reviews, ratings, gestures and tokens, votes, links, badges, video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0840" indent="-559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New forms are distributable and communicabl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Social is represented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media must create and represent social interaction and community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re are no direct faces or interactions -- only text, images, video, audio, and structured activities captured in media of re-present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sers behave according to what they believe is going on and what they believe matters to the audienc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sers establish a relation to the audience and community based on its users, themes, and identity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Social Interaction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n any social encounter a participant seeks to know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What’s going on?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f the interaction is familiar, s/he will have a sense of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How to proceed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What to do nex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sers of social media obtain this from the participation of others on the sit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It’s all talk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alk is addressed to an audience, of one, two, a group, or a public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odes and forms of talk organize social media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alk is direct (to addressee) or indirect (in front of audience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ommunication technology publishes and archives pages, posts, comments, and media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nteraction technology captures and transmits direct interactions: IM, direct messaging,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eme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702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 identity of a social media service is thematic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mes communicate What’s Going On which tells users How to proceed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areer networking and passive job search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ating and flirting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Verticals: music, movies, books, pet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hopping, reviewing, “best of” and “new”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assifieds, listings, marketplac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News, feeds, press, blog coverag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ctivities are Socia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media are designed around social activiti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ctivities structure the talk and the ac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ctivities use participants, context, them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se organize who talks, about what, what happens, when and how frequently, for how long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ll of which must be represented meaningfully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nd which must be self-sustaining and aliv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ctions are socia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action common to social media is linguistic, communicative, representative, attention-getting, inviting, participatory, and responsiv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se are social acts and action (organized in activities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66480" indent="-54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sk, question, query, solicit, hint, wink, imply...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66480" indent="-54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Recommend, suggest, offer, declare, promote, advertise...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66480" indent="-54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Review, opinionate, show off, rant, challenge....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66480" indent="-54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Rate, rank, affirm, confirm, accept, approve....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66480" indent="-54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avorite, tag, bookmark, link, share....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ssembling audience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media capture audienc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ir challenge is to produce active and participating audienc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round themed, topical, product or market-oriented conten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at is largely produced and consumed by the system’s member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Organization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marL="799920" indent="-514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 system organizes interaction through it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199880" indent="-514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Presentation of users (personal, professional, etc.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199880" indent="-514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ir contributions (conversation, opinions, announcements, etc.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199880" indent="-514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Layout and navigation (focus on people, posts, media, etc.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199880" indent="-514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se of representations and visual languages (tokens, icons, gifts, products, lists, etc.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199880" indent="-514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Management of time (fast, slow, ephemeral, archived, etc.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199880" indent="-514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Representation of collective use and community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Social medi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829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media are reshaping the marketplace for information and knowledge, goods and servic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y supplement marketplaces with the power of communic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ommunication unfolds in the form of conversations of varying depth, reach, and speed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Relationships inform the availability and value of inform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ll of which is changing the way our culture produces and consumes valu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nd presents a challenge to mass media and the organization of conventional media-based marketplac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Form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media borrow from common cultural form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ashion, news, politics, entertainment, etc.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se forms arrange and organize information, events, and particip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Which organize how we talk about and show: success, celebrity, popularity, news, trends, relevance, etc.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Each social media system is unique in its forms of talk and formats of represent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People are Content</a:t>
            </a:r>
            <a:r>
              <a:rPr b="0" lang="en-US" sz="8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	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media make users visible through their contribution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y structure those contributions so that the system reproduces itself out of its own participating member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ommunication is conten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ontributions communicat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ontributions create navig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navigation communicat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Engagemen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media engage not just by capturing attention but by engaging the psychological: users become self-engaged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sers are interested in their appeal to other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sers are sensitive to audience respons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sers are interested in their success and popularity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sers seek acknowledgment and reciprocity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ll of which motivate their participation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Presentation of Self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870840" indent="-559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 user’s participation in online media is informed by his or her sense of self and self imag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0840" indent="-559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ndividual users actively create, maintain, tweak, and monitor their online Self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0840" indent="-559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y have a self interest in seeing their online presence acknowledged and reflected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0840" indent="-559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y use social media as an extension of themselves, often telling about and narrating biographical details and reflecting how they would like to be see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0840" indent="-559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May be sensitive to self image, self perception, acknowledgment, status, position, success, and so 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Social Presenc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presence is about seeing and being see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ny social presence sets up the need to negotiate and handle presence availability (to others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Presence can be maintained with a persistent online profil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Messaging and updating lend presence greater immediacy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Presence tools vary in their organization of self talk, updates, distribu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Presence tools vary in their handling of interaction, communication, and availability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Paradoxe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746280" indent="-479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=  anti-socia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746280" indent="-479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ommunication = non-communicativ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746280" indent="-479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lf = Self Imag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746280" indent="-479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Other = Imagined Other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746280" indent="-479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Presence = Absenc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746280" indent="-479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dentity = Changing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746280" indent="-479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Personal tastes are highly social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746280" indent="-479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tility can be useles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746280" indent="-479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nd useless might b e usefu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746280" indent="-479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unction in dysfunc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7462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Practicing SxD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SxD: The palett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808560" indent="-519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esign of the UI for social interface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08560" indent="-519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esign of the application for social interac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08560" indent="-519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esign of communication for user generted conten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08560" indent="-519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esign of navigation for social and cultural tast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08560" indent="-519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esign of content modules for social navig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08560" indent="-519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esign of interaction elements for social practic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08560" indent="-519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esign of media types for new forms of communication 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08560" indent="-519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esign of interaction tools for new kinds of social practic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08560" indent="-519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esign lever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08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Functional dysfunction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What functions is sometimes dysfunctional from a conventional software perspectiv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ommunication and interaction are more than efficiency, effectiveness, and succes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What is ambiguous compel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What is withheld piques curiosity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What is deferred sustains interes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What is substituted feeds the imagin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What is unclear solicits communication and help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Design lever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69720" y="2184120"/>
            <a:ext cx="10464840" cy="669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esign of the screen (first order) shapes overall user activity and community (second order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interaction design anticipates second order effects and outcomes of UI, IA, interaction design choic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interaction design is indirect, informing, structuring, ordering, and arranging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ndividual user actions and activities add up to social practic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t’s the interactions among users that design inform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interaction design is the application of levers to steer and guide emerging social practic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35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Social medi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media are not just websites, but are dynamic social system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ir User Interface is a Social Interfac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ir content is peopl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ir people are contributor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ir contributions communicate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at communication is a form of talk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at talk is informed by desig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Users Own I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 social media application platform is not in our hands — it must be handed over to users and the community of user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hift of thinking from “what it does” to “what users do with it”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sers need to feel that it is theirs, need to own it and their relationship to i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reate the system so that it can become what it will mean to each user, and as a result, service the community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ttention economie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759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 attention economy addresses online activity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t wants to capture user interest and atten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But it is difficult to measure attention as a quantity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oes the user communicate it? to whom? how often?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oes the user respect and like it? really? how much?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oes the user return for more of it? frequently? for the same amount?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ttention spent on a brand, a thing, event, or even an idea belongs to one kind of attention economy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ttention economie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269720" y="2184120"/>
            <a:ext cx="10464840" cy="95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On social media, the economy of attention is measured by interes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ttention in social terms is quantity but also quality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nterest in social terms is not a thing, it’s a rel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Relations have intensities, direction, flux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 attention that matters in social media can include: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ommunicability; taste and preference; leadership and deference; trust and respect; authority and credibility; etc.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all to action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all to action is not always the conventional call to ac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3984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all to action is socia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3984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s often contributed (written, posted) by user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3984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an be a call to interac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3984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an be a call to particip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3984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an be a call to communic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3984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an be a call on the attention of other user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alvanize users to continue to create content that serves to mobilize others to do the sam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ppealing to the Other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269720" y="2184120"/>
            <a:ext cx="10464840" cy="6985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media content must help users appeal to each other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Personal style, online profile, character and personality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ppearance, looks, pictures, poses, qualiti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Knowledge, know-how, expertise, credibility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nformal social position by friends, network, popularity, testimonials, compliment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rmal social position by profession, rank, status, accreditation, employer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capital by value to users and community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ommon practice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practices emerge on social media as use becomes another way of maintaining and participating in relationship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26520" indent="-5256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ell by posting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26520" indent="-5256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how by uploading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26520" indent="-5256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alk by commenting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26520" indent="-5256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ek by querying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26520" indent="-5256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sk by questioning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26520" indent="-5256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Opinionate by blogging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26520" indent="-5256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ssociate by tagging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ypes of talk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269720" y="2184120"/>
            <a:ext cx="10464840" cy="68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ifferent kinds of talk form different social practices, identifiable by their common interactions, balance of private and public, levels of participation, etiquette, seriousness, formality, and mor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y shape the degree to which users refer to and involve themselves as real people in communic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onfessions, biographical and personal profil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lirtations, compliments, friending,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dvice, recommendations, review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Opinions and discussion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Windows and View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75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Views of information, stats, traffic, and activity measure, describe, and show user and audience participation.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3984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Views create aggregate perspectiv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3984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sers look at view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Windows containing user generated content are a selection of relevant content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3984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Windows contain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3984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sers look through window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sers take interest in other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3984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throughs, rating, favoriting, friending, tagging, etc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26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39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Reflections and Mirrors</a:t>
            </a:r>
            <a:br>
              <a:rPr sz="8400"/>
            </a:b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media show users their own activity back to them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Reflections show users their presence to other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66480" indent="-54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sers are interested in how they appear and how they appear to other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Mirrors show users their reflec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66480" indent="-54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sers need to see themselves represented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sers take interest in themselves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66480" indent="-54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numbers, ranking, ratings, votes, friends, testimonials, lists, gestures, winks, compliments all reflect upon the user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System Feedback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t’s necessary to show users their own actions, particularly the social consequences and reception of their action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sers need to establish trust in the system’s own functions and featur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sers want to feel competent users of the system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 system’s feedback is confirmation of their actions and recognition of their competenc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Much system feedback is provided by other users, displayed and organized by desig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e trade: Social Medi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ransferenc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n the absence of immediate response and reaction to user participation, users invent and project their interpretations and assumption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lf involvement and involvement in others is mediated and engages projection and introspec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Projective: seeing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ommenting, rating, digging, favoriting, tagging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ntrospective: being see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Blogging, recording video performances, journaling, profile maintenance and tweaking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Projection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sers will project the other’s intentions, motives, interests, desires, skills, and other attributes based in part on </a:t>
            </a:r>
            <a:r>
              <a:rPr b="0" i="1" lang="en-US" sz="3000" spc="-1" strike="noStrike">
                <a:solidFill>
                  <a:srgbClr val="000000"/>
                </a:solidFill>
                <a:latin typeface="Gill Sans"/>
              </a:rPr>
              <a:t>what they hope for or wish to see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sers particularly project into ambiguity and communication and when user identities are concealed or only partially revealed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Projection can result in users over-communicating and over-compensating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Projection may be more Other-oriented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Introspection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me social media user practices primarily engage the user with him or herself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n these kinds of activities, users become involved in their own ideas, perceptions, interpretations, and assumption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ntrospection can result in users engaging primarily in telling about themselves and crafting an online persona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ntrospective activities may appear as a distant and anti-social performanc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ntrospection may be more Self-oriented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Social networking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networks are the maintenance and sustaining of personal and professional relationships on social media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networks limit content access to known, familiar, and trusted association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Relationships embody trust in the first degre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Relationships extend confidence in the second degre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networks expand content access while limiting result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Distribution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me social media are built as destination sites and “walled city” domain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me social media extend their presence through widgets, badges, and shared data beyond their domai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o the desktop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o mobile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o other networked devices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Folksonomie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lat and non-hierarchical navigation through content categories, labels, and tags that reflect their popularity in us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lf-reinforcing associations as use by communities of users privilege tags used mos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Provide a view of the values and selections most popular among user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Permit change and news to continually reach the surface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re a snapshot in time and are thus curren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ini Me-di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Mass media inform the content and organization of social media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ultural and social references and presentations are readily available in the mass media and by virtue of digital distribution are easily quoted and repurposed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media are user-centric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Personal is new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Person is privileged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Personality is popular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rends: to dat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269720" y="2184120"/>
            <a:ext cx="10464840" cy="708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Web 1.0: publishing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1976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nformation was evergree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1976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sers browsed and searched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Web 2.0: I can publish too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1976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sers create their own home pag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1976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nd socialize them with friend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Web 3.0+: we talk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1976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 web goes socia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1976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ommunication is embedded in all web, distributed to all devic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rends: the futur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aster and lighter applications and tool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Higher presence and immediacy of the user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Niche social network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ewer new attempts at all-in-one destination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Branded social media and social media brand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Recognition by mass media, increasing assimilation and integr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istributed and widgetized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Non-browser based apps widgets and mobil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9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9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Socializing Media</a:t>
            </a:r>
            <a:r>
              <a:rPr b="0" lang="en-US" sz="8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	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69720" y="2184120"/>
            <a:ext cx="1046484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media = paradigm shift in marketing and advertising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1976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onsumers participate in production and messaging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1976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messages are their own, and have authenticity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1976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sing their relationships and social networks for communic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1976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on the basis of their own interest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How social media structure and organize talk changes branding, marketing, and advertising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t stake is how markets produce and consume valu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Socializing Market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media cultivate cultur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media socialize consump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media democratize produc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media proliferate communic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media network audienc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media relationize connection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How is SxD different?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707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870840" indent="-559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cial Interaction Design approaches social media are “talk systems”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0840" indent="-559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xD shapes, informs, organizes, structures, and arranges this talk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70840" indent="-559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6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Web 2.0 designs social applications for a flourishing culture of new content, new navigation, new audiences, new relationships, new purposes and us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06440" indent="-559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 shift to transactions as ongoing communic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06440" indent="-559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 shift of focus from user practices to social practic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06440" indent="-559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Emphasis on social practices as byproduct of design and informed, not controlled, by desig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064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SxD in theory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69720" y="2184480"/>
            <a:ext cx="104648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